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EA1F-C2D2-4371-B164-0F8B716C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06C5-B403-4B53-972A-155489F1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6022-4E04-4C37-B647-EC40CED5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2614-8B3A-4B6D-ACE9-A40A6134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A0BA-6336-4C4B-BA43-7906E582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B0F8-83A6-4726-BB23-919F6FD2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6CC5-0F2A-43C9-A8EF-9EB57754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7A31-08A5-4BD4-9ED3-CEE44494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F00E-4890-49C7-910D-2FFB0F9A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0043-81A9-4CC0-BCA8-8C1E156E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3F9B-2D9D-45C5-B36B-5BA0AEF8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78ED-7EF8-441A-AE0E-983A7135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99FF-35D8-4E78-9F8E-6D07116CF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8.8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onential Growth and Dec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2390760"/>
            <a:ext cx="7467480" cy="3019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16002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xponential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0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534520" cy="2341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7200" y="4267080"/>
            <a:ext cx="80010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17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8839080" cy="1530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80880" y="2971800"/>
            <a:ext cx="6248520" cy="1359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80880" y="4495680"/>
            <a:ext cx="762012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9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815364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10480" cy="3217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56386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3200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5800" y="3049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xponential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8382240" cy="2832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4920" y="5867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4572000"/>
            <a:ext cx="44956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ur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plain the difference between modeling using an exponential growth function and modeling using an exponential dec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Remember to date and highlight this entr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5:36:40Z</dcterms:created>
  <dc:creator>Susannah Graham</dc:creator>
  <dc:description/>
  <dc:language>en-US</dc:language>
  <cp:lastModifiedBy>Susannah Graham</cp:lastModifiedBy>
  <dcterms:modified xsi:type="dcterms:W3CDTF">2009-08-04T21:44:46Z</dcterms:modified>
  <cp:revision>2</cp:revision>
  <dc:subject/>
  <dc:title>Lesson 8.8 Exponential Growth and Decay</dc:title>
</cp:coreProperties>
</file>